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19.jpeg" ContentType="image/jpeg"/>
  <Override PartName="/ppt/media/image21.wmf" ContentType="image/x-wmf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5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CED6-4CD5-4D81-85C7-E368573A5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80F3-4F69-4A78-9F95-E6958888E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7F5F-3E54-4333-87C7-C123C4FE3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1159-BAEC-4CB2-8117-0A1E775ED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9DA76-F611-45D6-9CEC-0D064672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33F47-BC28-490F-B437-B5871288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B9370-628E-4283-8DDB-812465DF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74355-D68B-4B31-88B3-4276A647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36040-4367-480D-9EB1-E8609560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517B6-B844-4536-8FD2-9B07ED57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39571-6CA9-435B-95FB-41BCA101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D4227-DDD2-4B39-A0E0-4A2C1676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BE8BB-D2C5-4A68-96CC-101E33FB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33FAB-9FB2-40CB-BA81-272D3BAC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91594-5BED-4D0A-A715-33739B70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1BD19-FC62-445D-968C-667AD0C9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1E44F-2F0D-4D4C-B490-A4E35F65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5B24B-5C4B-4124-AC2B-F468F5B1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CBD80-12A5-450B-84CB-A1047C67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D8FA0-7F6F-4568-A328-33C53BF7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49310-C62D-4E3B-AA12-1468B05C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F2CC7-90CD-47B9-8457-BDF2654C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84839-DC42-4511-8B34-EACF17F3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62D54-3A1F-4448-8D69-9DB6801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6D9E6-8D23-4003-8EC7-48E0203D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6983E-6664-414C-9569-ECD88E2A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083C7-B3C5-4EF9-9896-7C5FEDB1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6A846-EF43-4BFF-8BDE-C2E1CF28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563BA-EAAB-4407-973B-8B7AFC9A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AE804-195C-4721-B4B1-483498C8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DEDAD-21CC-4AA6-B2AC-1BCACAC3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34B86-0657-4428-BE09-E65A672C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797C1-E0D9-449E-82CC-26B2D411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F7ADF-8A7E-484A-ACF5-6497494B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33742-1449-48FA-B335-37B39DA3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F9B1A-AFC5-4771-9105-FB4BB75F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F07EB-F50A-4FDB-93B1-9B2D1405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2BDBB-E44E-4BAD-9E15-ACE3BD58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DB9DD-5083-450D-A5B2-23B13D90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1BFF8-1881-4198-A7B4-685CDEEC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3451D-4FC2-4CD9-A943-BC9785AC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D2F64-4E72-4AEE-B589-8DF0B601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CF71C-6574-4440-BBB4-C4388130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D640E-20D0-4579-95CF-D1AE8A4C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899216-498D-4827-BD65-909A2B74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8C027-C8D4-40DC-8D18-7C93CEE7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6698A-F24B-479F-9C6D-2088F8D1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16CBB8-4CC1-4ACB-8D0F-2241C1C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6061B-7E5C-46C2-8BBD-5B62D8B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20DE0-4D6A-4730-B73D-A6278F73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A34EA-283B-48B7-BE42-015151E2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E6493-B2C5-4D52-B847-E79B8454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logo-white.png"/>
          <p:cNvPicPr/>
          <p:nvPr/>
        </p:nvPicPr>
        <p:blipFill>
          <a:blip r:embed="rId2"/>
          <a:stretch/>
        </p:blipFill>
        <p:spPr>
          <a:xfrm>
            <a:off x="34920" y="6021360"/>
            <a:ext cx="1735200" cy="747720"/>
          </a:xfrm>
          <a:prstGeom prst="rect">
            <a:avLst/>
          </a:prstGeom>
          <a:ln w="0">
            <a:noFill/>
          </a:ln>
        </p:spPr>
      </p:pic>
      <p:sp>
        <p:nvSpPr>
          <p:cNvPr id="5" name="Footer Placeholder 4"/>
          <p:cNvSpPr/>
          <p:nvPr/>
        </p:nvSpPr>
        <p:spPr>
          <a:xfrm>
            <a:off x="5219640" y="6257880"/>
            <a:ext cx="38894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r Paul Annet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port &amp; Exercise Medicine Physicia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running_man4.png"/>
          <p:cNvPicPr/>
          <p:nvPr/>
        </p:nvPicPr>
        <p:blipFill>
          <a:blip r:embed="rId3"/>
          <a:stretch/>
        </p:blipFill>
        <p:spPr>
          <a:xfrm>
            <a:off x="0" y="260280"/>
            <a:ext cx="8991720" cy="635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logo-white.png"/>
          <p:cNvPicPr/>
          <p:nvPr/>
        </p:nvPicPr>
        <p:blipFill>
          <a:blip r:embed="rId2"/>
          <a:stretch/>
        </p:blipFill>
        <p:spPr>
          <a:xfrm>
            <a:off x="34920" y="6021360"/>
            <a:ext cx="1735200" cy="74772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4"/>
          <p:cNvSpPr/>
          <p:nvPr/>
        </p:nvSpPr>
        <p:spPr>
          <a:xfrm>
            <a:off x="5219640" y="6257880"/>
            <a:ext cx="38894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r Paul Annet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port &amp; Exercise Medicine Physicia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" descr="running_man4.png"/>
          <p:cNvPicPr/>
          <p:nvPr/>
        </p:nvPicPr>
        <p:blipFill>
          <a:blip r:embed="rId3"/>
          <a:stretch/>
        </p:blipFill>
        <p:spPr>
          <a:xfrm>
            <a:off x="0" y="260280"/>
            <a:ext cx="8991720" cy="6353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084720" y="5589720"/>
            <a:ext cx="3059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logo-white.png"/>
          <p:cNvPicPr/>
          <p:nvPr/>
        </p:nvPicPr>
        <p:blipFill>
          <a:blip r:embed="rId2"/>
          <a:stretch/>
        </p:blipFill>
        <p:spPr>
          <a:xfrm>
            <a:off x="34920" y="6021360"/>
            <a:ext cx="1735200" cy="747720"/>
          </a:xfrm>
          <a:prstGeom prst="rect">
            <a:avLst/>
          </a:prstGeom>
          <a:ln w="0">
            <a:noFill/>
          </a:ln>
        </p:spPr>
      </p:pic>
      <p:sp>
        <p:nvSpPr>
          <p:cNvPr id="88" name="Footer Placeholder 4"/>
          <p:cNvSpPr/>
          <p:nvPr/>
        </p:nvSpPr>
        <p:spPr>
          <a:xfrm>
            <a:off x="5219640" y="6257880"/>
            <a:ext cx="38894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r Mel Cus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port &amp; Exercise Medicine Physicia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running_man4.png"/>
          <p:cNvPicPr/>
          <p:nvPr/>
        </p:nvPicPr>
        <p:blipFill>
          <a:blip r:embed="rId3"/>
          <a:stretch/>
        </p:blipFill>
        <p:spPr>
          <a:xfrm>
            <a:off x="34920" y="260280"/>
            <a:ext cx="8991720" cy="6353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6084720" y="6248520"/>
            <a:ext cx="3059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4577-32F6-4BAC-8CFD-1712B0B12E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logo-white.png"/>
          <p:cNvPicPr/>
          <p:nvPr/>
        </p:nvPicPr>
        <p:blipFill>
          <a:blip r:embed="rId2"/>
          <a:stretch/>
        </p:blipFill>
        <p:spPr>
          <a:xfrm>
            <a:off x="34920" y="6021360"/>
            <a:ext cx="1735200" cy="74772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4"/>
          <p:cNvSpPr/>
          <p:nvPr/>
        </p:nvSpPr>
        <p:spPr>
          <a:xfrm>
            <a:off x="5219640" y="6257880"/>
            <a:ext cx="38894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r Paul Annet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port &amp; Exercise Medicine Physicia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" descr="running_man4.png"/>
          <p:cNvPicPr/>
          <p:nvPr/>
        </p:nvPicPr>
        <p:blipFill>
          <a:blip r:embed="rId3"/>
          <a:stretch/>
        </p:blipFill>
        <p:spPr>
          <a:xfrm>
            <a:off x="0" y="260280"/>
            <a:ext cx="8991720" cy="635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F519-4BAE-487F-AC20-89C96F26D6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logo-white.png"/>
          <p:cNvPicPr/>
          <p:nvPr/>
        </p:nvPicPr>
        <p:blipFill>
          <a:blip r:embed="rId2"/>
          <a:stretch/>
        </p:blipFill>
        <p:spPr>
          <a:xfrm>
            <a:off x="34920" y="6021360"/>
            <a:ext cx="1735200" cy="747720"/>
          </a:xfrm>
          <a:prstGeom prst="rect">
            <a:avLst/>
          </a:prstGeom>
          <a:ln w="0">
            <a:noFill/>
          </a:ln>
        </p:spPr>
      </p:pic>
      <p:sp>
        <p:nvSpPr>
          <p:cNvPr id="176" name="Footer Placeholder 4"/>
          <p:cNvSpPr/>
          <p:nvPr/>
        </p:nvSpPr>
        <p:spPr>
          <a:xfrm>
            <a:off x="5219640" y="6257880"/>
            <a:ext cx="38894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r Paul Annet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port &amp; Exercise Medicine Physicia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0" descr="running_man4.png"/>
          <p:cNvPicPr/>
          <p:nvPr/>
        </p:nvPicPr>
        <p:blipFill>
          <a:blip r:embed="rId3"/>
          <a:stretch/>
        </p:blipFill>
        <p:spPr>
          <a:xfrm>
            <a:off x="0" y="260280"/>
            <a:ext cx="8991720" cy="63532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4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56F5-8336-4B0D-BDBD-4FD7197532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rthosports.com.au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371600" y="237960"/>
            <a:ext cx="64008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PRPP Injection</a:t>
            </a:r>
            <a:br>
              <a:rPr sz="2800"/>
            </a:b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Dr. Paul Annett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MBBS FACSP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Sport and Exercise Medicine Physicia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orthosports.com.au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ffff66"/>
                </a:solidFill>
                <a:latin typeface="Calibri"/>
              </a:rPr>
              <a:t>29-31 Dora Street, Hurstville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Content Placeholder 4" descr=""/>
          <p:cNvPicPr/>
          <p:nvPr/>
        </p:nvPicPr>
        <p:blipFill>
          <a:blip r:embed="rId1"/>
          <a:stretch/>
        </p:blipFill>
        <p:spPr>
          <a:xfrm>
            <a:off x="307800" y="1111320"/>
            <a:ext cx="3856320" cy="28908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2407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PRP - Prepa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2"/>
          <a:stretch/>
        </p:blipFill>
        <p:spPr>
          <a:xfrm>
            <a:off x="4498920" y="26028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3"/>
          <a:stretch/>
        </p:blipFill>
        <p:spPr>
          <a:xfrm>
            <a:off x="65160" y="3449520"/>
            <a:ext cx="3919320" cy="2940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173160" y="1209600"/>
            <a:ext cx="4262400" cy="3197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"/>
          <p:cNvPicPr/>
          <p:nvPr/>
        </p:nvPicPr>
        <p:blipFill>
          <a:blip r:embed="rId5"/>
          <a:stretch/>
        </p:blipFill>
        <p:spPr>
          <a:xfrm>
            <a:off x="33480" y="3438360"/>
            <a:ext cx="4346280" cy="3259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"/>
          <p:cNvPicPr/>
          <p:nvPr/>
        </p:nvPicPr>
        <p:blipFill>
          <a:blip r:embed="rId6"/>
          <a:stretch/>
        </p:blipFill>
        <p:spPr>
          <a:xfrm>
            <a:off x="4389480" y="85680"/>
            <a:ext cx="4430520" cy="3322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"/>
          <p:cNvPicPr/>
          <p:nvPr/>
        </p:nvPicPr>
        <p:blipFill>
          <a:blip r:embed="rId7"/>
          <a:stretch/>
        </p:blipFill>
        <p:spPr>
          <a:xfrm>
            <a:off x="4554360" y="3449520"/>
            <a:ext cx="4050000" cy="3036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" descr=""/>
          <p:cNvPicPr/>
          <p:nvPr/>
        </p:nvPicPr>
        <p:blipFill>
          <a:blip r:embed="rId8"/>
          <a:stretch/>
        </p:blipFill>
        <p:spPr>
          <a:xfrm>
            <a:off x="4775040" y="2662200"/>
            <a:ext cx="36086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any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Not all high q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onflicting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Enough evidence to support its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Evidence for PRP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5940360" y="1752480"/>
            <a:ext cx="24066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ennis Elb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Evidence for PRP - Tend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81140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042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VAS scores at 12 month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(&gt;25% improvem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SI – 49% (24/49) improved Vs PRP 73% (37/51) impro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SI better initially, PRP improved longer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Tennis Elb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6288120" y="49212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ishra AmJSM ‘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hronic tennis elbow considering surg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15 PRP, 5 LA 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60% v 16% improvement @ 8/5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80% PRP @ 6/1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Tennis Elb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788000" y="4365720"/>
            <a:ext cx="381636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artinelli, Orthop 20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9/14 Excellent @ 12 months (64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arrett, Podiatry today ’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6/9 good at 2 month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Plantar Fascit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27734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Gamradt. Techniques in Orthopaedics ‘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14 patients rotator cuff tears, failed non-operative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12/14 improved at 8/5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6/12 had MRI improv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of the t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Rotator Cuf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2978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032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Knee O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Why does it wor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ost likely down regulation/modulation of inflam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ositive effects on cartilage in vi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Does produce chondrocyte prolif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No evidence for slowing disease prog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900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PRPP and Joi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6372360" y="214200"/>
            <a:ext cx="20160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971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Knee joint Osteoarth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atel 2013. AmJ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156 kn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52 PRP, 50 X2 PRP, 46 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ignificant improvement in first 2 groups from 2-3/52 to 6/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No difference between 1 &amp; 2 PRP inj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NS deterio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Evidence for PRP Joi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704880" y="1746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Generally a safe proced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ost injection 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lmost everyone. Lasts from days to w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Not universally success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pprox. 70% for tendon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PRP - Downsi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6012000" y="1557360"/>
            <a:ext cx="273672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asic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RPP p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atien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PRP injection -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5278320" y="1830240"/>
            <a:ext cx="3179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763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ennis elbow – 36/52. 7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Golfers elbow – 7/10. 7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Gluteal tendinopathy – 20/33. 6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lantar Fascitis – 9/14. 64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chilles – 11/18. 6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atella tendon – 5/8. 62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My Experience – At 2 months</a:t>
            </a:r>
            <a:br>
              <a:rPr sz="4400"/>
            </a:b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‘</a:t>
            </a:r>
            <a:r>
              <a:rPr b="0" lang="en-AU" sz="3200" spc="-1" strike="noStrike">
                <a:solidFill>
                  <a:srgbClr val="ffff00"/>
                </a:solidFill>
                <a:latin typeface="Times New Roman"/>
              </a:rPr>
              <a:t>The plural of anecdote is not data’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iologic treatments offer another alternative to our standard management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RP has a good theoretical basis for treating chronic tendino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Whilst the literature is not always robust, there is enough evidence to support its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ost injection pain is the main side-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Take Home Mess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3" name="IMG_3299.MOV" descr=""/>
          <p:cNvPicPr/>
          <p:nvPr/>
        </p:nvPicPr>
        <p:blipFill>
          <a:blip r:embed="rId1"/>
          <a:stretch/>
        </p:blipFill>
        <p:spPr>
          <a:xfrm>
            <a:off x="1187280" y="1889280"/>
            <a:ext cx="7164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9656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Tendon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Breakdown of collagen architec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Angiofibroplastic hyperplasia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Fibre disrup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Increased cellular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Neovascular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Prolonged healing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Poor blood suppl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2" name="Object 2"/>
          <p:cNvGraphicFramePr/>
          <p:nvPr/>
        </p:nvGraphicFramePr>
        <p:xfrm>
          <a:off x="5048280" y="2071800"/>
          <a:ext cx="31622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8280" y="2071800"/>
                    <a:ext cx="3162240" cy="38005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Standard conservative manag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Rest, i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Medications – NSAID’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Physio + rehabil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Cortisone inje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Surge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Tendinopathy – not always helpfu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Joint – Arthroplas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Is there another way we can treat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Historical Perspec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rcRect l="0" t="0" r="0" b="60839"/>
          <a:stretch/>
        </p:blipFill>
        <p:spPr>
          <a:xfrm>
            <a:off x="4859280" y="2421000"/>
            <a:ext cx="37116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15880" y="171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The role of biological therap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Edwards 2003. JH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Tennis Elb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22/28 improved with whole blood inje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The Goldberg effect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Could we do this better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Historical Perspec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9" name="Picture 6" descr="http://www.orthosports.com.au/SiteMedia/w3svc994/Uploads/Images/doctors_goldberg_cv_bw.jpg"/>
          <p:cNvPicPr/>
          <p:nvPr/>
        </p:nvPicPr>
        <p:blipFill>
          <a:blip r:embed="rId1"/>
          <a:stretch/>
        </p:blipFill>
        <p:spPr>
          <a:xfrm>
            <a:off x="5796000" y="4221000"/>
            <a:ext cx="1390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imes New Roman"/>
              </a:rPr>
              <a:t>A volume of plasma that has a platelet count above baselin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imes New Roman"/>
              </a:rPr>
              <a:t>First used 1987 in open heart surgery, now widely used in many fields of medicine (orthopaedics, cosmetic surgery, wound care, ophthalmology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Times New Roman"/>
              </a:rPr>
              <a:t>Removes the parts of the blood we don’t need (RBC’s/Excess plasma), whilst concentrating the part we want (platelet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1116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What is PRPP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2" name="Picture 7" descr="http://assets-s3.mensjournal.com/img/essential/does-platelet-rich-plasma-treatment-work/618_348_does-platelet-rich-plasma-treatment-work.jpg"/>
          <p:cNvPicPr/>
          <p:nvPr/>
        </p:nvPicPr>
        <p:blipFill>
          <a:blip r:embed="rId1"/>
          <a:stretch/>
        </p:blipFill>
        <p:spPr>
          <a:xfrm>
            <a:off x="5772240" y="353880"/>
            <a:ext cx="26859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0476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issue healing regulated by complex processes using growth factors and cytok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latelets are a rich source of bioactive molec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1100 different prote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he exogenous introduction of growth factors may enhance tissue healing in compromised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How Does PRPP work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1206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lpha Gran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GF-B - cell re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VEGF – angioge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PDGF – tissue re-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EGF – cell migration &amp; re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cute inflammation leading to collagen deposition and enhanced tissue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How Does PRPP work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5" descr="http://deskarati.com/wp-content/uploads/2014/06/image002.png"/>
          <p:cNvPicPr/>
          <p:nvPr/>
        </p:nvPicPr>
        <p:blipFill>
          <a:blip r:embed="rId1"/>
          <a:stretch/>
        </p:blipFill>
        <p:spPr>
          <a:xfrm>
            <a:off x="6300720" y="1628640"/>
            <a:ext cx="25336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206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ultiple methods propo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imple spin p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ommercial k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aximise platelet count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541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PRP Prepa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2" descr="https://encrypted-tbn0.gstatic.com/images?q=tbn:ANd9GcS8f_tPFIWIKvQKDoDRy40LcAzvyrlCw9FOVUPGOkzHQXWyhXAb"/>
          <p:cNvPicPr/>
          <p:nvPr/>
        </p:nvPicPr>
        <p:blipFill>
          <a:blip r:embed="rId1"/>
          <a:stretch/>
        </p:blipFill>
        <p:spPr>
          <a:xfrm>
            <a:off x="6588000" y="190440"/>
            <a:ext cx="2067120" cy="2219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s://encrypted-tbn1.gstatic.com/images?q=tbn:ANd9GcQykao5YBCDZvWmbIOd-LFwIPx-j-N12uf14huc_l_Z9H9uU3NW0Q"/>
          <p:cNvPicPr/>
          <p:nvPr/>
        </p:nvPicPr>
        <p:blipFill>
          <a:blip r:embed="rId2"/>
          <a:stretch/>
        </p:blipFill>
        <p:spPr>
          <a:xfrm>
            <a:off x="5364000" y="2492280"/>
            <a:ext cx="2810160" cy="2105280"/>
          </a:xfrm>
          <a:prstGeom prst="rect">
            <a:avLst/>
          </a:prstGeom>
          <a:ln w="0">
            <a:noFill/>
          </a:ln>
        </p:spPr>
      </p:pic>
      <p:pic>
        <p:nvPicPr>
          <p:cNvPr id="252" name="Content Placeholder 4" descr=""/>
          <p:cNvPicPr/>
          <p:nvPr/>
        </p:nvPicPr>
        <p:blipFill>
          <a:blip r:embed="rId3"/>
          <a:stretch/>
        </p:blipFill>
        <p:spPr>
          <a:xfrm>
            <a:off x="5016600" y="465300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01:05:07Z</dcterms:created>
  <dc:creator>Doron</dc:creator>
  <dc:description/>
  <dc:language>en-US</dc:language>
  <cp:lastModifiedBy>Paul Annett</cp:lastModifiedBy>
  <dcterms:modified xsi:type="dcterms:W3CDTF">2014-10-07T00:44:54Z</dcterms:modified>
  <cp:revision>217</cp:revision>
  <dc:subject/>
  <dc:title>PowerPoint Presentation</dc:title>
</cp:coreProperties>
</file>